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E9C6-D1A1-445A-8650-BE2C1316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99E7-3193-4E2B-8EC7-D45AC3F7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D3F6-CF18-4365-B895-410DB712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842A-226E-49F7-A16C-0F6604113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A9DB-4EC3-4BE7-A1DE-392EEF08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6C26-AF63-4BB6-ACE7-98106602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1D95-650D-40B3-825E-3CB48574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FC28-88BB-412E-BA27-2074AF1D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6665-1A57-43B8-9676-6D63A6EC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9C37-39B3-4130-8481-DD0AAF4B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7655-B582-4D0E-BA87-FF06AD5B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A293-AA17-477C-B21E-51C36666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EC91-DACB-4201-9021-A16263B68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6:47:13Z</dcterms:created>
  <dc:creator>abeason</dc:creator>
  <dc:description/>
  <dc:language>en-US</dc:language>
  <cp:lastModifiedBy>abeason</cp:lastModifiedBy>
  <dcterms:modified xsi:type="dcterms:W3CDTF">2008-10-21T16:47:17Z</dcterms:modified>
  <cp:revision>1</cp:revision>
  <dc:subject/>
  <dc:title>Slide 1</dc:title>
</cp:coreProperties>
</file>